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A91-E1DA-4991-BCE7-94A04D21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A33-DF88-4615-B58B-FEC0181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64E-E62F-4AFE-8F65-20FAE821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15A-30B0-4B72-95DC-FCE9C2E0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5638-BFF2-43DF-A29D-487B7C25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0772-3466-4CA1-890A-EF455A12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9651-1F79-4C27-86C3-6EB5C5D4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06DB-ABD4-4716-AEA1-BFC19952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A4D6-88D3-4437-A960-506E6884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5BC9-4FE4-48CD-910B-17CA5E91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6B9B-CEDE-432A-ADA1-CFCF6FF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D79-32B1-4E22-9C24-A23058C0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6182-72A8-4C77-B56A-026A76E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6077-3B33-498F-81F1-45EFBCB9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E1B6-DAC3-4B92-8CD7-04F99D72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5A41-B199-499E-905F-2ED8DA92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E683-E09F-4F39-B25C-AA785D85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570-FDCE-49B7-B778-77FF941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A88-7F41-469E-8075-BDFE158E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BCF-470E-405B-A8F9-31669ADE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549-73FB-469D-976B-1DF4FFC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53B-8EA2-4831-9948-F2BAD4AE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4B8-706D-46C1-92CB-82FB7BC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7BF-DC62-405E-87E7-C54B84B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E379-017F-400F-9F2F-8058B7D30A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47AE-764F-41FB-A427-14F1F004CF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ife-threatening Emergencies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era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633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Watch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pe you enjoyed(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choke;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: Sera Dav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aths caused by choking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han 4,000 deaths occur each year from ch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king are occurred when a person’s airwaves are blocked by an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498760" cy="2895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3429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6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choking can be prev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and goes on the throat with the finger and thumb extend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need to remove the object that is blocking the air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 behind the victim, put your arms under the armpits, between the waste and ribcage and push gently down on the victims stoma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862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48:34Z</dcterms:created>
  <dc:creator>Kraybill Campus LMS</dc:creator>
  <dc:description/>
  <dc:language>en-US</dc:language>
  <cp:lastModifiedBy>Kraybill Campus LMS</cp:lastModifiedBy>
  <dcterms:modified xsi:type="dcterms:W3CDTF">2011-05-24T13:11:25Z</dcterms:modified>
  <cp:revision>5</cp:revision>
  <dc:subject/>
  <dc:title>Life-threatening Emergencies!</dc:title>
</cp:coreProperties>
</file>